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703A-B4B3-4053-8C69-4E3ACA6C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2F3E-2744-4364-91B9-BD64D503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A213-22C7-4785-AF5E-F1449535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358C-1545-443A-B307-93894CFB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690B-15F7-4BB8-8372-D58482A6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FEAA-FC55-4E10-9FF8-D9E7E23E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5159-DDC9-41D7-BB0B-ED0831EE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F760-206F-4828-9022-36F5826A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EB6D-608E-4BA3-AB25-642BD54D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9A77-A9C9-4136-BCFC-5B5096DC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0973-F3CD-4CF6-BE74-AFFB7F05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D96A-4B52-4799-9353-55CB086D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E780-3B51-4C38-9D85-45F09DC07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633400" cy="2559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43280" y="549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eorgia"/>
              </a:rPr>
              <a:t>El futuro escrito en el fondo del 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4360" y="17733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03280" y="2997360"/>
            <a:ext cx="5832720" cy="32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eorgia"/>
              </a:rPr>
              <a:t>Ofrecer respuestas científicas a fenómenos relacionados con el cambio climá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eorgia"/>
              </a:rPr>
              <a:t>Desmontar mitos acerca del calentamiento global socialmente establec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eorgia"/>
              </a:rPr>
              <a:t>Favorecer el razonamiento a través del método científico, aplicando conceptos científicos bás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258920" y="3068640"/>
            <a:ext cx="415800" cy="415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258920" y="4076640"/>
            <a:ext cx="415800" cy="416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258920" y="5300640"/>
            <a:ext cx="415800" cy="4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633400" cy="2559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43280" y="549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eorgia"/>
              </a:rPr>
              <a:t>El futuro escrito en el fondo del 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08360" y="155736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19640" y="4653000"/>
            <a:ext cx="1657440" cy="1428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56000" y="4797360"/>
            <a:ext cx="1373040" cy="1131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1258920" y="2852640"/>
            <a:ext cx="1504800" cy="1335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516720" y="2421000"/>
            <a:ext cx="1947960" cy="1658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3851280" y="2565360"/>
            <a:ext cx="1965240" cy="1673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16000" y="4437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Ensalad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1440" y="44370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Plasti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90520" y="436572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Jarra de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43840" y="596916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Film de co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59480" y="589752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Cubitos de hi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633400" cy="2559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43280" y="549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eorgia"/>
              </a:rPr>
              <a:t>El futuro escrito en el fondo del 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9640" y="1628640"/>
            <a:ext cx="51130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a50021"/>
                </a:solidFill>
                <a:latin typeface="Georgia"/>
              </a:rPr>
              <a:t>¿El deshielo de los icebergs traerá consigo una subida significativa del nivel del mar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3284640"/>
            <a:ext cx="77770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s alumnos deberán forrar el interior de la ensaladera con plastilina, tomando como molde el recipiente que se les facili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Acto seguido, se llena de agua la mitad del recipiente, introduciendo, además, varios cubitos de hielo que simulan ser iceber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Cada grupo marcará, entonces, el nivel alcanzado por el agua, haciendo una muesca en la plastilina, y cubrirá el recipiente con un plástico para evitar que el líquido se evap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093080" y="3860640"/>
            <a:ext cx="423720" cy="424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579840" y="5084640"/>
            <a:ext cx="415800" cy="416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203640" y="1557360"/>
            <a:ext cx="415800" cy="4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633400" cy="2559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843280" y="549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eorgia"/>
              </a:rPr>
              <a:t>El futuro escrito en el fondo del 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3141720"/>
            <a:ext cx="19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Georgia"/>
              </a:rPr>
              <a:t>RESUL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3789360"/>
            <a:ext cx="80661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eorgia"/>
              </a:rPr>
              <a:t>Una vez derretidos los cubitos de hielo, los alumnos comprobarán que el nivel del agua no ha subido debido a que los cubitos de hielo son una pequeña masa de agua que, al congelarse, ha expandido su volumen hasta un 10%, haciéndose menos densa que el líquido (motivo por el que flot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eorgia"/>
              </a:rPr>
              <a:t>Cuando se derriten, el líquido se contrae de nuevo, por lo que el líquido que contiene el recipiente no incrementa su ni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356000" y="1268280"/>
            <a:ext cx="416160" cy="416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8532720" y="260280"/>
            <a:ext cx="416160" cy="416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 rot="2640600">
            <a:off x="468000" y="2781360"/>
            <a:ext cx="415800" cy="415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 rot="2384400">
            <a:off x="7811640" y="6093000"/>
            <a:ext cx="416160" cy="415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 rot="499800">
            <a:off x="3635280" y="4941360"/>
            <a:ext cx="416160" cy="4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633400" cy="2559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43280" y="549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eorgia"/>
              </a:rPr>
              <a:t>El futuro escrito en el fondo del 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48000" y="162864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¿Contribuye el deshielo de los casquetes polares a elevar el nivel de los océan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19280" y="3284640"/>
            <a:ext cx="64800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eorgia"/>
              </a:rPr>
              <a:t>Los alumnos cubren aproximadamente con un centímetro de agua el interior de la ensaladera, forrada de plastilina, y colocan en el centro un vaso invertido. Sobre dicho vaso colocan, a su vez, un par de cubitos de hielo y esperan a que estos se derrit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eorgia"/>
              </a:rPr>
              <a:t>Una vez deshechos, comprobarán que el nivel del agua ha subido liger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84720" y="5105520"/>
            <a:ext cx="2141640" cy="13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 rot="21160200">
            <a:off x="7740720" y="4869000"/>
            <a:ext cx="42372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633400" cy="25592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843280" y="549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eorgia"/>
              </a:rPr>
              <a:t>El futuro escrito en el fondo del 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10240" y="364500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35280" y="4724280"/>
            <a:ext cx="63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Georgia"/>
              </a:rPr>
              <a:t>El agua procedente del deshielo de los glaciares y de los casquetes polares sí contribuye a incrementar el nivel de los océanos, ya que se vierte desde ti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292720" y="3213000"/>
            <a:ext cx="423720" cy="42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651640" y="2205000"/>
            <a:ext cx="423720" cy="424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 rot="19237800">
            <a:off x="7667640" y="5373720"/>
            <a:ext cx="927000" cy="93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971640" y="4149720"/>
            <a:ext cx="42372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1:17:04Z</dcterms:created>
  <dc:creator>Becarios10</dc:creator>
  <dc:description/>
  <dc:language>en-US</dc:language>
  <cp:lastModifiedBy>Angel</cp:lastModifiedBy>
  <dcterms:modified xsi:type="dcterms:W3CDTF">2008-01-21T08:33:28Z</dcterms:modified>
  <cp:revision>22</cp:revision>
  <dc:subject/>
  <dc:title>Diapositiva 1</dc:title>
</cp:coreProperties>
</file>